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dt" idx="1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move the slid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2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 type="sldNum" idx="2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C46A-672F-4B43-AE50-96725271A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86FE-2C9C-46A4-A6A3-55D645EA97F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52B2-D76A-47CC-B2E3-3372FFD900E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8DAD-CAEB-499A-ADCF-6C6A38A2B95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53B8-91F6-4F87-B842-EB6F3C15663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2787-7FCE-4D0F-AC94-1AE851F762F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7C44-ECB1-4211-BAB4-13BC5B00E53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1F7A-C263-4AFB-8AA4-717C176C443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F16D-BB4E-47CE-914A-C1C31EB7979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1AA7-52FC-4601-9966-989BB8E2BB5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5582-573E-471E-AC7C-E1189480A96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A72B-7012-4F8A-A92B-9528C56E529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0804-49C4-46F6-9637-31B147496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8465-9053-4822-9749-1ED0C94A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E4C0-D216-4708-B2CA-B3E0D162A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2555-D36B-4F20-87F2-DD641B095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A995-A18B-44C5-A681-99E71140D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DEE4-3E6A-41D5-85B4-C00D0EC4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F5EE-B60F-4B62-8824-146D6095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724D-F092-44EB-A117-E5BFA007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8C63-27D2-4E3F-8536-67DA31D6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DF69-75D6-44F1-ADDA-CCE5F450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04BC-C589-43FE-9CD6-2D680681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2345-9E8C-4744-BC59-AD4630CA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A764-1520-4B47-9FDE-17F02CA6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2132-E53C-4A90-8A92-0A366DE3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36A8-69FA-4AF4-920C-581A51E1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256A-6BE8-4E7D-A131-BF91BD440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C6D1-1BC9-41C7-B71A-F3596685E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4A6CA-EB8C-4A53-BA0A-529927160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4FC98-A17A-4A50-BA05-34520276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544D3-1542-4E44-A27F-98D60CEB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90B5E-1B45-47F6-A0F8-2F2358EC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F9DD3-747B-4307-AF82-0B672F56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34A2-D403-4823-8F86-F2A1C9F8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06097-2D1E-4902-9424-58245768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D838E-CD67-4219-9F3A-5532D5EE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3BFA2-B447-4276-8A7E-07F334DD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B8B96-CECE-4BF4-B426-C519B96A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33C93-CEA4-4D6F-A061-814BF33B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2049C-4C60-402C-870C-C040FC5F2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0CC7D-871A-48C0-BDE8-79EC332C0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25369-27B4-4A58-B935-67DE2AB95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ADF5B-590E-4FEC-9F4B-8A81DD1A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59B66-979D-49D4-98CF-5531BEF5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1C18-BCDD-4A2C-A72C-0DD72245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50ECF-43C9-4BCC-9646-9BA2D578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A4B5C-3549-47F8-AD62-780C04B5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A830C-B4F6-45FD-82F6-A02AC671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D0E88-71BC-4808-9104-A9D8BC78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D991C-4461-4D0E-B094-CDFEBD3F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AA6AC-D341-49F0-A478-FF1EA98E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6F960-1890-43EA-B5B5-424BF30E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A3069-B498-45D7-BCB5-150D4075C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B8E1F-9513-4901-937A-082B7C52C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75F17-1A88-40DC-BC8B-CAFE25B6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3A91-FEE7-4B85-9707-76CF348E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3F3E2-FF46-499F-AA7F-1E4ADF13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AC9E1-89E7-4673-B91E-A3DFF64C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632D4-C516-4D57-9178-C4A7CF15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B16E9-28D0-454D-B820-6C2CEBD0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DAF56-ABF2-4F85-87AA-0113E86E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2E93B-AA84-4F72-B566-8B5D8432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B3FD8-54E8-4141-A2FE-24C0DB5A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8755D-DF09-40B4-8110-E44CAE66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3D886-2CB4-464C-B2CD-18C2B455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37CDD-7A96-4A5D-8F04-DBE34F92F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D984-65EF-4D42-B57F-D7836BB1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EACB6-CB83-4899-ADFB-39BD244F3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94205-26FE-4862-A5E6-1381903AC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2DB7B-F39C-41E7-85E3-123AED6B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EBA0B-5EA4-436E-B1CB-C556CEC8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B26BC-6C85-445D-91AA-C2C87B02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DA023-7F63-4E9B-852B-F925272A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DC365-2B59-4E31-9CCD-8A1B8893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1256F-1321-4728-95AB-88156B82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E8134-628E-40FE-8332-8A2E4649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3BF3B-3B51-4A00-AA37-36722FCE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76F0-2C6F-46A9-9586-65D02FC1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1CF24-BF4F-4979-8079-A902E879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FA6B9-EF38-49A1-842D-AACE41377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4EED9-7F06-4874-B960-AEF4D3942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F206-B999-429E-8850-4D47A8DF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3569-0189-4C67-8FD1-6AEDD969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F8C4-304E-4D79-ACFC-381C33D4DE20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Freeform 8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4421-7D82-4B7A-8092-10E69D0ADC82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Freeform 8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9EEC-2281-478E-86F4-0AFE90183046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1F65-FB9A-4986-9CA4-D140232553AE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B962-2E67-4EDE-91A5-70B8579ED508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7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4662-2330-4528-8AD0-ECB518A22569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3080" y="4959360"/>
            <a:ext cx="5829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Do Now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6457680" y="4959360"/>
            <a:ext cx="2400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Tw Cen MT"/>
              </a:rPr>
              <a:t>Scientific Notation Conversion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Write in Scientific Notation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234,000,000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b9f25"/>
                </a:solidFill>
                <a:uFillTx/>
                <a:latin typeface="Tw Cen MT"/>
                <a:hlinkClick r:id="rId1" action="ppaction://hlinksldjump"/>
              </a:rPr>
              <a:t>Your answer: 2.34 x 10</a:t>
            </a:r>
            <a:r>
              <a:rPr b="0" lang="en-US" sz="2800" spc="-1" strike="noStrike" u="sng" baseline="30000">
                <a:solidFill>
                  <a:srgbClr val="6b9f25"/>
                </a:solidFill>
                <a:uFillTx/>
                <a:latin typeface="Tw Cen MT"/>
                <a:hlinkClick r:id="rId2" action="ppaction://hlinksldjump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Tw Cen MT Condensed"/>
              </a:rPr>
              <a:t>How to change numbers in scientific notation to standard notation.</a:t>
            </a:r>
            <a:endParaRPr b="0" lang="en-US" sz="4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1680" y="1599840"/>
            <a:ext cx="8540640" cy="1219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rst, decide which way you are going to be moving your decimal point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1143000" y="2819520"/>
            <a:ext cx="64771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egative Exponent – move to the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ositive Exponent – move to the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685800" y="4127400"/>
            <a:ext cx="7162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the decimal point the number of the expon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1219320" y="5334120"/>
            <a:ext cx="3047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:  6.35 x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.82 x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-5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Text Box 8"/>
          <p:cNvSpPr/>
          <p:nvPr/>
        </p:nvSpPr>
        <p:spPr>
          <a:xfrm>
            <a:off x="4572000" y="532116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3,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4572000" y="5867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.000018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Write in standard notation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1320" y="1599840"/>
            <a:ext cx="3127320" cy="4498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9.608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w Cen MT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3.5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w Cen MT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8.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w Cen MT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5.07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w Cen MT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4102200" y="1600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9,608,000,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4102200" y="254484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.0003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4102200" y="368784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.08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4102200" y="4678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,070,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28964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Tw Cen MT Condensed"/>
              </a:rPr>
              <a:t>Operations with scientific notation.</a:t>
            </a:r>
            <a:endParaRPr b="0" lang="en-US" sz="4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5235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2000"/>
          </a:bodyPr>
          <a:p>
            <a:pPr marL="73800" indent="-73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w Cen MT"/>
              </a:rPr>
              <a:t>Adding: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73800" indent="-73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You just add the first number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73800" indent="-73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Your exponents must be the sam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73800" indent="-73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(4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) + (9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) = (4 + 9)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73800" indent="-73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= 13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73800" indent="-73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73800" indent="-73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w Cen MT"/>
              </a:rPr>
              <a:t>Subtracting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73800" indent="-73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You just subtract the first number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73800" indent="-73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Your exponents must be the sam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73800" indent="-73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(8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) - (2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) = (8 - 2)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73800" indent="-73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= 6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73800" indent="-73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Tw Cen MT Condensed"/>
              </a:rPr>
              <a:t>Operations with scientific notation.</a:t>
            </a:r>
            <a:endParaRPr b="0" lang="en-US" sz="4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74760" y="2338560"/>
            <a:ext cx="8540640" cy="304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0000"/>
          </a:bodyPr>
          <a:p>
            <a:pPr marL="72000" indent="-72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w Cen MT"/>
              </a:rPr>
              <a:t>Multiplying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2000" indent="-72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Multiply the first numbers and then the second numbers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2000" indent="-72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You just add your exponent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2000" indent="-72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2000" indent="-72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(7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)(4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w Cen MT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) = (7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Tahoma"/>
              </a:rPr>
              <a:t> 4)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w Cen MT"/>
                <a:ea typeface="Tahoma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Tahoma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w Cen MT"/>
                <a:ea typeface="Tahom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2000" indent="-72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Tahoma"/>
              </a:rPr>
              <a:t>= 28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w Cen MT"/>
                <a:ea typeface="Tahom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2000" indent="-72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w Cen MT"/>
                <a:ea typeface="Tahoma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w Cen MT"/>
                <a:ea typeface="Tahoma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w Cen MT"/>
                <a:ea typeface="Tahoma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w Cen MT"/>
                <a:ea typeface="Tahoma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w Cen MT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304920" y="4114800"/>
            <a:ext cx="85341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304920" y="5410080"/>
            <a:ext cx="861048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Tw Cen MT Condensed"/>
              </a:rPr>
              <a:t>Operations with scientific notation.</a:t>
            </a:r>
            <a:endParaRPr b="0" lang="en-US" sz="4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1680" y="1218960"/>
            <a:ext cx="8308800" cy="487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w Cen MT"/>
              </a:rPr>
              <a:t>Dividing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Divide the first numbers and then the second numbers.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You subtract your exponent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7"/>
              <p:cNvSpPr txBox="1"/>
              <p:nvPr/>
            </p:nvSpPr>
            <p:spPr>
              <a:xfrm>
                <a:off x="1335240" y="3214800"/>
                <a:ext cx="6472080" cy="18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8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5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8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8</m:t>
                                </m:r>
                              </m:e>
                            </m:d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6" name="Text Box 9"/>
          <p:cNvSpPr/>
          <p:nvPr/>
        </p:nvSpPr>
        <p:spPr>
          <a:xfrm>
            <a:off x="1066680" y="4952880"/>
            <a:ext cx="3657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mplify the exponent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Line 10"/>
          <p:cNvSpPr/>
          <p:nvPr/>
        </p:nvSpPr>
        <p:spPr>
          <a:xfrm flipV="1">
            <a:off x="4013280" y="3809520"/>
            <a:ext cx="457200" cy="12193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Exit Slip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7000"/>
          </a:bodyPr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1. (7.5 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) + (8.0 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) =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8748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w Cen MT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(9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) – (6 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) =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8748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8748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w Cen MT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(6.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) x (5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) =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8748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8748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4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w Cen MT"/>
              </a:rPr>
              <a:t>(9 x 10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Tw Cen MT"/>
              </a:rPr>
              <a:t>4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w Cen MT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8748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(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8748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Do Now Problems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nvert into standard not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7.898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0.4567 x 10-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nvert into Scientific Not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956,400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0.0245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Answers to Do Now Problems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nvert into standard not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789,800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0.0004567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nvert into Scientific Not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9.56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2.4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2004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d0d0d"/>
                </a:solidFill>
                <a:latin typeface="Tw Cen MT Condensed"/>
              </a:rPr>
              <a:t>Operations in Scientific Notation</a:t>
            </a:r>
            <a:br>
              <a:rPr sz="5900"/>
            </a:br>
            <a:br>
              <a:rPr sz="5900"/>
            </a:br>
            <a:r>
              <a:rPr b="0" lang="en-US" sz="2900" spc="-1" strike="noStrike">
                <a:solidFill>
                  <a:srgbClr val="0d0d0d"/>
                </a:solidFill>
                <a:latin typeface="Tw Cen MT Condensed"/>
              </a:rPr>
              <a:t>Lesson 1.8</a:t>
            </a:r>
            <a:endParaRPr b="0" lang="en-US" sz="2900" spc="-1" strike="noStrike">
              <a:solidFill>
                <a:srgbClr val="0d0d0d"/>
              </a:solidFill>
              <a:latin typeface="Tw Cen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RS Standard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1680" y="1752480"/>
            <a:ext cx="8540640" cy="4346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IN 402: Understand a simple experimental design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Objectives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rite numbers in standard and scientific notation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Perform calculations with numbers in scientific notation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What is Scientific Notation?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385120" cy="4498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 number expressed in the form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-a number that is between 1 and 9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Tahoma"/>
              </a:rPr>
              <a:t>-multiplied by a power of 10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48320" y="1599840"/>
            <a:ext cx="4194000" cy="2173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8320" y="3925440"/>
            <a:ext cx="4194000" cy="2173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496800" y="3751200"/>
            <a:ext cx="815364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ptune is 2,800,000,000 miles from the su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9"/>
              <p:cNvSpPr txBox="1"/>
              <p:nvPr/>
            </p:nvSpPr>
            <p:spPr>
              <a:xfrm>
                <a:off x="3200400" y="5576760"/>
                <a:ext cx="182880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Tw Cen MT Condensed"/>
              </a:rPr>
              <a:t>How do you write a number in scientific notation?</a:t>
            </a:r>
            <a:endParaRPr b="0" lang="en-US" sz="4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Ex:  3,000,000,000,000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11"/>
              <p:cNvSpPr txBox="1"/>
              <p:nvPr/>
            </p:nvSpPr>
            <p:spPr>
              <a:xfrm>
                <a:off x="4229280" y="5029200"/>
                <a:ext cx="19047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2" name="Text Box 6"/>
          <p:cNvSpPr/>
          <p:nvPr/>
        </p:nvSpPr>
        <p:spPr>
          <a:xfrm>
            <a:off x="228600" y="2590920"/>
            <a:ext cx="518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is the decimal poin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3962520" y="139716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380880" y="3657600"/>
            <a:ext cx="838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move the decimal point to the left until the number in front of it is between 1 and 9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457200" y="51055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,000,000,000,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3797280" y="494028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AutoShape 28"/>
          <p:cNvSpPr/>
          <p:nvPr/>
        </p:nvSpPr>
        <p:spPr>
          <a:xfrm flipH="1">
            <a:off x="3683160" y="5543640"/>
            <a:ext cx="304560" cy="183960"/>
          </a:xfrm>
          <a:custGeom>
            <a:avLst/>
            <a:gdLst>
              <a:gd name="textAreaLeft" fmla="*/ 53280 w 304560"/>
              <a:gd name="textAreaRight" fmla="*/ 221040 w 304560"/>
              <a:gd name="textAreaTop" fmla="*/ 24480 h 183960"/>
              <a:gd name="textAreaBottom" fmla="*/ 15948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AutoShape 29"/>
          <p:cNvSpPr/>
          <p:nvPr/>
        </p:nvSpPr>
        <p:spPr>
          <a:xfrm flipH="1">
            <a:off x="3428280" y="5537160"/>
            <a:ext cx="304920" cy="184320"/>
          </a:xfrm>
          <a:custGeom>
            <a:avLst/>
            <a:gdLst>
              <a:gd name="textAreaLeft" fmla="*/ 52920 w 304920"/>
              <a:gd name="textAreaRight" fmla="*/ 220680 w 304920"/>
              <a:gd name="textAreaTop" fmla="*/ 24480 h 184320"/>
              <a:gd name="textAreaBottom" fmla="*/ 15984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AutoShape 30"/>
          <p:cNvSpPr/>
          <p:nvPr/>
        </p:nvSpPr>
        <p:spPr>
          <a:xfrm flipH="1">
            <a:off x="3187800" y="5549760"/>
            <a:ext cx="304560" cy="184320"/>
          </a:xfrm>
          <a:custGeom>
            <a:avLst/>
            <a:gdLst>
              <a:gd name="textAreaLeft" fmla="*/ 53280 w 304560"/>
              <a:gd name="textAreaRight" fmla="*/ 221040 w 304560"/>
              <a:gd name="textAreaTop" fmla="*/ 24480 h 184320"/>
              <a:gd name="textAreaBottom" fmla="*/ 15984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AutoShape 31"/>
          <p:cNvSpPr/>
          <p:nvPr/>
        </p:nvSpPr>
        <p:spPr>
          <a:xfrm flipH="1">
            <a:off x="2894760" y="5537160"/>
            <a:ext cx="304920" cy="184320"/>
          </a:xfrm>
          <a:custGeom>
            <a:avLst/>
            <a:gdLst>
              <a:gd name="textAreaLeft" fmla="*/ 52920 w 304920"/>
              <a:gd name="textAreaRight" fmla="*/ 220680 w 304920"/>
              <a:gd name="textAreaTop" fmla="*/ 24480 h 184320"/>
              <a:gd name="textAreaBottom" fmla="*/ 15984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AutoShape 32"/>
          <p:cNvSpPr/>
          <p:nvPr/>
        </p:nvSpPr>
        <p:spPr>
          <a:xfrm flipH="1">
            <a:off x="2653560" y="5537160"/>
            <a:ext cx="304920" cy="184320"/>
          </a:xfrm>
          <a:custGeom>
            <a:avLst/>
            <a:gdLst>
              <a:gd name="textAreaLeft" fmla="*/ 52920 w 304920"/>
              <a:gd name="textAreaRight" fmla="*/ 220680 w 304920"/>
              <a:gd name="textAreaTop" fmla="*/ 24480 h 184320"/>
              <a:gd name="textAreaBottom" fmla="*/ 15984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AutoShape 33"/>
          <p:cNvSpPr/>
          <p:nvPr/>
        </p:nvSpPr>
        <p:spPr>
          <a:xfrm flipH="1">
            <a:off x="2400480" y="5537160"/>
            <a:ext cx="304560" cy="184320"/>
          </a:xfrm>
          <a:custGeom>
            <a:avLst/>
            <a:gdLst>
              <a:gd name="textAreaLeft" fmla="*/ 53280 w 304560"/>
              <a:gd name="textAreaRight" fmla="*/ 221040 w 304560"/>
              <a:gd name="textAreaTop" fmla="*/ 24480 h 184320"/>
              <a:gd name="textAreaBottom" fmla="*/ 15984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AutoShape 34"/>
          <p:cNvSpPr/>
          <p:nvPr/>
        </p:nvSpPr>
        <p:spPr>
          <a:xfrm flipH="1">
            <a:off x="2107440" y="5537160"/>
            <a:ext cx="304920" cy="184320"/>
          </a:xfrm>
          <a:custGeom>
            <a:avLst/>
            <a:gdLst>
              <a:gd name="textAreaLeft" fmla="*/ 52920 w 304920"/>
              <a:gd name="textAreaRight" fmla="*/ 220680 w 304920"/>
              <a:gd name="textAreaTop" fmla="*/ 24480 h 184320"/>
              <a:gd name="textAreaBottom" fmla="*/ 15984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AutoShape 35"/>
          <p:cNvSpPr/>
          <p:nvPr/>
        </p:nvSpPr>
        <p:spPr>
          <a:xfrm flipH="1">
            <a:off x="1866240" y="5537160"/>
            <a:ext cx="304920" cy="184320"/>
          </a:xfrm>
          <a:custGeom>
            <a:avLst/>
            <a:gdLst>
              <a:gd name="textAreaLeft" fmla="*/ 52920 w 304920"/>
              <a:gd name="textAreaRight" fmla="*/ 220680 w 304920"/>
              <a:gd name="textAreaTop" fmla="*/ 24480 h 184320"/>
              <a:gd name="textAreaBottom" fmla="*/ 15984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AutoShape 36"/>
          <p:cNvSpPr/>
          <p:nvPr/>
        </p:nvSpPr>
        <p:spPr>
          <a:xfrm flipH="1">
            <a:off x="1599480" y="5537160"/>
            <a:ext cx="304920" cy="184320"/>
          </a:xfrm>
          <a:custGeom>
            <a:avLst/>
            <a:gdLst>
              <a:gd name="textAreaLeft" fmla="*/ 52920 w 304920"/>
              <a:gd name="textAreaRight" fmla="*/ 220680 w 304920"/>
              <a:gd name="textAreaTop" fmla="*/ 24480 h 184320"/>
              <a:gd name="textAreaBottom" fmla="*/ 15984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AutoShape 37"/>
          <p:cNvSpPr/>
          <p:nvPr/>
        </p:nvSpPr>
        <p:spPr>
          <a:xfrm flipH="1">
            <a:off x="1308240" y="5537160"/>
            <a:ext cx="304560" cy="184320"/>
          </a:xfrm>
          <a:custGeom>
            <a:avLst/>
            <a:gdLst>
              <a:gd name="textAreaLeft" fmla="*/ 53280 w 304560"/>
              <a:gd name="textAreaRight" fmla="*/ 221040 w 304560"/>
              <a:gd name="textAreaTop" fmla="*/ 24480 h 184320"/>
              <a:gd name="textAreaBottom" fmla="*/ 15984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AutoShape 38"/>
          <p:cNvSpPr/>
          <p:nvPr/>
        </p:nvSpPr>
        <p:spPr>
          <a:xfrm flipH="1">
            <a:off x="1065960" y="5537160"/>
            <a:ext cx="304920" cy="184320"/>
          </a:xfrm>
          <a:custGeom>
            <a:avLst/>
            <a:gdLst>
              <a:gd name="textAreaLeft" fmla="*/ 52920 w 304920"/>
              <a:gd name="textAreaRight" fmla="*/ 220680 w 304920"/>
              <a:gd name="textAreaTop" fmla="*/ 24480 h 184320"/>
              <a:gd name="textAreaBottom" fmla="*/ 15984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AutoShape 39"/>
          <p:cNvSpPr/>
          <p:nvPr/>
        </p:nvSpPr>
        <p:spPr>
          <a:xfrm flipH="1">
            <a:off x="800280" y="5537160"/>
            <a:ext cx="304560" cy="184320"/>
          </a:xfrm>
          <a:custGeom>
            <a:avLst/>
            <a:gdLst>
              <a:gd name="textAreaLeft" fmla="*/ 53280 w 304560"/>
              <a:gd name="textAreaRight" fmla="*/ 221040 w 304560"/>
              <a:gd name="textAreaTop" fmla="*/ 24480 h 184320"/>
              <a:gd name="textAreaBottom" fmla="*/ 15984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 Box 40"/>
          <p:cNvSpPr/>
          <p:nvPr/>
        </p:nvSpPr>
        <p:spPr>
          <a:xfrm>
            <a:off x="673200" y="494028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Tw Cen MT Condensed"/>
              </a:rPr>
              <a:t>How do you write a number in scientific notation?</a:t>
            </a:r>
            <a:endParaRPr b="0" lang="en-US" sz="4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Ex:  0.000063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13"/>
              <p:cNvSpPr txBox="1"/>
              <p:nvPr/>
            </p:nvSpPr>
            <p:spPr>
              <a:xfrm>
                <a:off x="2527200" y="4419720"/>
                <a:ext cx="234972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3" name="Text Box 5"/>
          <p:cNvSpPr/>
          <p:nvPr/>
        </p:nvSpPr>
        <p:spPr>
          <a:xfrm>
            <a:off x="380880" y="266688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move the decimal point to the right until the number to the left of it is between 1 and 9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457200" y="44956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.00006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AutoShape 7"/>
          <p:cNvSpPr/>
          <p:nvPr/>
        </p:nvSpPr>
        <p:spPr>
          <a:xfrm>
            <a:off x="838080" y="4965840"/>
            <a:ext cx="304920" cy="183960"/>
          </a:xfrm>
          <a:custGeom>
            <a:avLst/>
            <a:gdLst>
              <a:gd name="textAreaLeft" fmla="*/ 53280 w 304920"/>
              <a:gd name="textAreaRight" fmla="*/ 221040 w 304920"/>
              <a:gd name="textAreaTop" fmla="*/ 24480 h 183960"/>
              <a:gd name="textAreaBottom" fmla="*/ 15948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AutoShape 8"/>
          <p:cNvSpPr/>
          <p:nvPr/>
        </p:nvSpPr>
        <p:spPr>
          <a:xfrm>
            <a:off x="1092240" y="4952880"/>
            <a:ext cx="304920" cy="184320"/>
          </a:xfrm>
          <a:custGeom>
            <a:avLst/>
            <a:gdLst>
              <a:gd name="textAreaLeft" fmla="*/ 53280 w 304920"/>
              <a:gd name="textAreaRight" fmla="*/ 221040 w 304920"/>
              <a:gd name="textAreaTop" fmla="*/ 24480 h 184320"/>
              <a:gd name="textAreaBottom" fmla="*/ 15984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AutoShape 9"/>
          <p:cNvSpPr/>
          <p:nvPr/>
        </p:nvSpPr>
        <p:spPr>
          <a:xfrm>
            <a:off x="1320840" y="4940280"/>
            <a:ext cx="304920" cy="184320"/>
          </a:xfrm>
          <a:custGeom>
            <a:avLst/>
            <a:gdLst>
              <a:gd name="textAreaLeft" fmla="*/ 53280 w 304920"/>
              <a:gd name="textAreaRight" fmla="*/ 221040 w 304920"/>
              <a:gd name="textAreaTop" fmla="*/ 24480 h 184320"/>
              <a:gd name="textAreaBottom" fmla="*/ 15984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AutoShape 10"/>
          <p:cNvSpPr/>
          <p:nvPr/>
        </p:nvSpPr>
        <p:spPr>
          <a:xfrm>
            <a:off x="1536840" y="4946760"/>
            <a:ext cx="304560" cy="183960"/>
          </a:xfrm>
          <a:custGeom>
            <a:avLst/>
            <a:gdLst>
              <a:gd name="textAreaLeft" fmla="*/ 53280 w 304560"/>
              <a:gd name="textAreaRight" fmla="*/ 221040 w 304560"/>
              <a:gd name="textAreaTop" fmla="*/ 24480 h 183960"/>
              <a:gd name="textAreaBottom" fmla="*/ 15948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AutoShape 11"/>
          <p:cNvSpPr/>
          <p:nvPr/>
        </p:nvSpPr>
        <p:spPr>
          <a:xfrm>
            <a:off x="1752480" y="4940280"/>
            <a:ext cx="304920" cy="184320"/>
          </a:xfrm>
          <a:custGeom>
            <a:avLst/>
            <a:gdLst>
              <a:gd name="textAreaLeft" fmla="*/ 53280 w 304920"/>
              <a:gd name="textAreaRight" fmla="*/ 221040 w 304920"/>
              <a:gd name="textAreaTop" fmla="*/ 24480 h 184320"/>
              <a:gd name="textAreaBottom" fmla="*/ 15984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Text Box 16"/>
          <p:cNvSpPr/>
          <p:nvPr/>
        </p:nvSpPr>
        <p:spPr>
          <a:xfrm>
            <a:off x="380880" y="5486400"/>
            <a:ext cx="70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ice that the exponent is negativ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Line 17"/>
          <p:cNvSpPr/>
          <p:nvPr/>
        </p:nvSpPr>
        <p:spPr>
          <a:xfrm flipH="1" flipV="1">
            <a:off x="4800600" y="4800240"/>
            <a:ext cx="914400" cy="7621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19:23:06Z</dcterms:created>
  <dc:creator>Karyn Baize</dc:creator>
  <dc:description/>
  <dc:language>en-US</dc:language>
  <cp:lastModifiedBy>Clemencia Acevedo</cp:lastModifiedBy>
  <cp:lastPrinted>2011-02-14T14:14:28Z</cp:lastPrinted>
  <dcterms:modified xsi:type="dcterms:W3CDTF">2017-02-06T10:49:13Z</dcterms:modified>
  <cp:revision>18</cp:revision>
  <dc:subject/>
  <dc:title>Scientific Notation</dc:title>
</cp:coreProperties>
</file>